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C21-6F2A-4CC3-BD11-0AFB323A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EA3-A3EE-4745-8966-AE88F0A8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7B9-B54C-4AFE-A569-59E8B203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EDF-94CF-432F-BA73-313E96D8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567D-0CD6-403F-9D21-1687688C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B6CD-7642-4087-8178-80245C7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6E76-22DC-4466-B8FA-2D9721B6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EB5-23CB-4A05-8B79-3B875C8A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4E10-69F1-46EA-A29E-6CC49744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A4DB-176D-41B2-A04A-2FAF2856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0802-9808-4CE8-ADCE-E647ECB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DA0-F7F4-4548-9F80-8CA664AF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FD3D-7550-4060-BA77-480FE592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7BA8-F069-43C3-9072-D866469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83A0-2CCD-4716-9DD5-FC92D755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8821-9BF7-4189-A747-27D3118B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D5B7-D489-4376-BE7D-208F8F41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2FD-149D-4703-B1AA-4850B16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D5C-F0E9-4ABC-821C-60EAE9B7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413-6B3E-4992-9762-3048A78C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75E-72F5-4C46-AFDC-E55D067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346-66A7-4C78-AAD0-A4BEF653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2BB-9943-4FE9-BE96-EAAEC32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054-C25E-44C1-96C6-08FADC56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ADD5-88E7-40A4-86AB-50B657A2E5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05B9-2743-40A8-A795-EFDE4C12252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ing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ade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14400" y="6858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earch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828800" y="2590920"/>
            <a:ext cx="6324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Directory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Keyword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43000" y="22860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rectory search is like looking through a table of contents to find information about a subject. This type of search is best when you are not exactly sure what you are looking for, but just have a topi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219320" y="4724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ctivity – Find information about cats on Kids Cli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3520" y="2057400"/>
            <a:ext cx="83055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2. Effective searching depends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word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choosing them thoughtfully produces the best result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better th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who, what, where, when and why are better than how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Nou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the most powerful Keywo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Word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04920" y="27432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first thing you find is probabl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the information you nee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Information at the top of the list is not always the bes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find may not be accur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You may find inappropriate informatio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to Know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57200" y="1828800"/>
            <a:ext cx="826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enter the words you think will be in th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documents you seek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The search engine finds the webpages in its index tha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exactly match your 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review the search results to see if your words foun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hoped fo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If your search words didn't match, you revise your word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nd try agai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5257800" cy="1516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24960" y="60199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words in bold are called key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14400" y="6094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Game - Step by Step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4920" y="18288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ere is the liberty bell locat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3840" y="3124080"/>
            <a:ext cx="19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4440" y="4267080"/>
            <a:ext cx="80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at is the name of Minnesota’s football team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80160" y="54100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19320" y="533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word Activity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e scavenger hunt activit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Activiti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7:20:18Z</dcterms:created>
  <dc:creator>user</dc:creator>
  <dc:description/>
  <dc:language>en-US</dc:language>
  <cp:lastModifiedBy>Kris Sheehan</cp:lastModifiedBy>
  <dcterms:modified xsi:type="dcterms:W3CDTF">2010-02-03T00:22:07Z</dcterms:modified>
  <cp:revision>19</cp:revision>
  <dc:subject/>
  <dc:title>Searching Introduction</dc:title>
</cp:coreProperties>
</file>