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FB4-4486-429E-B23A-66A2F761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D26-F95F-489E-B5DF-15FED36B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092-5C5D-4349-A10A-E36A7AB5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9CD-97F5-4F3F-8D47-5FAC9AF9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6238-158F-4359-A83D-0DF2B782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CF63-9209-4D49-85FE-5C13929D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D25D-ECFE-49E8-97AD-E429FB2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75FE-E525-4037-A233-DE80534F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9353-9679-4A63-9C84-75B5515A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FE5A-6584-47EB-A591-EE237E36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8A97-50B5-46B1-BF6D-6FC6F11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8D7-E357-47CB-B7FE-236C5595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1FC2-0122-49E4-A16B-880DF5D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2619-397C-43AD-87CF-60A2DD14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A662-CE25-4897-9B46-01C0115C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7E5D-F32C-4BA1-AD5A-6BADBFAB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CD36-FA43-4678-90F7-FA90F746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EB4-4567-4DA0-BFFD-BEA20EF4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CC4-CE3A-4FC5-A10C-5EC110E9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608-1F55-4B2E-B934-8FC2D80A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186-3B19-4194-BDE9-C2349019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F49-0B9C-4D73-8360-77DA661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F67-1A76-4862-AAB8-F2752CF1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5D3-22E0-491D-A1D3-2B261631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A04E-7292-4093-AAFA-1769FF5EBC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E86-3012-4585-926C-3980097254A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ing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ade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14400" y="6858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earch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828800" y="2590920"/>
            <a:ext cx="6324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Directory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Keyword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43000" y="22860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rectory search is like looking through a table of contents to find information about a subject. This type of search is best when you are not exactly sure what you are looking for, but just have a topi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219320" y="4724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ctivity – Find information about cats on Kids Cli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3520" y="2057400"/>
            <a:ext cx="83055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2. Effective searching depends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word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choosing them thoughtfully produces the best result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better th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who, what, where, when and why are better than how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Nou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the most powerful Keywo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Word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04920" y="27432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first thing you find is probabl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the information you nee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Information at the top of the list is not always the bes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find may not be accur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You may find inappropriate informatio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to Know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57200" y="1828800"/>
            <a:ext cx="826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enter the words you think will be in th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documents you seek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The search engine finds the webpages in its index tha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exactly match your 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review the search results to see if your words foun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hoped fo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If your search words didn't match, you revise your word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nd try agai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5257800" cy="1516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24960" y="60199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words in bold are called key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14400" y="6094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Game - Step by Step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4920" y="18288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ere is the liberty bell locat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3840" y="3124080"/>
            <a:ext cx="19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4440" y="4267080"/>
            <a:ext cx="80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at is the name of Minnesota’s football team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80160" y="54100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19320" y="533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word Activity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e scavenger hunt activit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Activiti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7:20:18Z</dcterms:created>
  <dc:creator>user</dc:creator>
  <dc:description/>
  <dc:language>en-US</dc:language>
  <cp:lastModifiedBy>Kris Sheehan</cp:lastModifiedBy>
  <dcterms:modified xsi:type="dcterms:W3CDTF">2010-02-03T00:22:07Z</dcterms:modified>
  <cp:revision>19</cp:revision>
  <dc:subject/>
  <dc:title>Searching Introduction</dc:title>
</cp:coreProperties>
</file>