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F81-B5AF-49EF-AC2A-4DE63834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4ED-758E-436D-A55F-2F889A99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2D7-12D1-4C47-8335-3E8BF5BE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F30-AB57-49E5-8C4D-2768618D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7725-1F8E-4998-A25C-79D76655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8732-69B1-4448-B3BA-7EE0C23F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3A0C-23DF-4473-9C32-B3025122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05DB-8423-4557-A3E6-383C62A8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F745-7C3F-4275-84DD-3CD9A9FA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161E-70D4-49E2-AD85-95F633E2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16F4-5C2A-4F44-AE07-4922A6AF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FE1-53B4-439F-BBA9-51AEC0B1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DA0F-17D2-4895-A804-9E8AA05F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69B7-76F1-4E5E-937A-0CA57018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3992-7774-4F6A-830E-C3211D0F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7013-230E-4ACF-8AC6-004DEAD1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4240-BBD8-4AD9-99F4-014C9559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F71-2DEE-4FFC-8B00-D61D1E31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594-B041-4E6A-B121-52D7F8E2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B46-5731-4033-ADEC-9C1614B2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514-D0C2-4BB4-9B9B-6B2A511C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72C-6A3A-4D78-A04E-9C4725D9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9F1-122D-4A69-809D-8538747A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647-FC72-417A-A2BB-3F7B1DC6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9E8C-9EA8-4244-BE21-35E93CE10F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0733-3512-4F1C-B8D3-D68D5072AB2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ing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ade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14400" y="6858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earch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828800" y="2590920"/>
            <a:ext cx="6324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Directory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Keyword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43000" y="22860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rectory search is like looking through a table of contents to find information about a subject. This type of search is best when you are not exactly sure what you are looking for, but just have a topi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219320" y="4724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ctivity – Find information about cats on Kids Clic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33520" y="2057400"/>
            <a:ext cx="83055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2. Effective searching depends 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yword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choosing them thoughtfully produces the best result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better th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who, what, where, when and why are better than how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er Nou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the most powerful Keywo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Word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04920" y="27432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first thing you find is probabl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the information you nee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Information at the top of the list is not always the bes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find may not be accur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You may find inappropriate informatio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gs to Know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57200" y="1828800"/>
            <a:ext cx="826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enter the words you think will be in th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documents you seek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The search engine finds the webpages in its index tha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exactly match your 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review the search results to see if your words foun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hoped for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If your search words didn't match, you revise your word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nd try agai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5257800" cy="1516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524960" y="60199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words in bold are called key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14400" y="6094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 Game - Step by Step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4920" y="18288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ere is the liberty bell locat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03840" y="3124080"/>
            <a:ext cx="19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44440" y="4267080"/>
            <a:ext cx="80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at is the name of Minnesota’s football team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80160" y="541008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219320" y="533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word Activity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e scavenger hunt activit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 Activiti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7:20:18Z</dcterms:created>
  <dc:creator>user</dc:creator>
  <dc:description/>
  <dc:language>en-US</dc:language>
  <cp:lastModifiedBy>Kris Sheehan</cp:lastModifiedBy>
  <dcterms:modified xsi:type="dcterms:W3CDTF">2010-02-03T00:22:07Z</dcterms:modified>
  <cp:revision>19</cp:revision>
  <dc:subject/>
  <dc:title>Searching Introduction</dc:title>
</cp:coreProperties>
</file>