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90E-8BEE-4583-B99C-25D012DE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B92-9B38-4710-9D0A-CF655541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00FC-7CFE-464D-B010-144DC257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3C8-75D0-45BC-9DCE-8851CDD5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53A8-F10A-4CCC-95DC-13BAFBDF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986B-5057-4ED9-81E9-3687A1CA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A8D8-B4CE-4634-9DAC-53639C45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0D9D-70C8-4ECB-B2BE-68CB044B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3CA5-CCE1-4062-968B-C671F19A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A7E1-29A0-4C1E-8E5E-11074347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06DC-4AF6-40C2-971B-444E8DD1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EC87-19B0-44D8-A303-1356BAE2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5282-89D0-4AC1-8E90-11F87B28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D9F8-76A3-4CAD-A2FE-32BB9BC5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4088-F83C-4D4D-81D0-1DF5281A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69E5-BC01-4144-BCFE-DC50C2DE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709E-E5C2-48C3-AB5B-67F2BB06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9453-93FF-4CC4-A0C8-C87E3BFE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A46-D70A-4415-B625-FFA9F7D1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61FB-01B4-461E-AA7A-C255ACF6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71E6-973C-4C7A-A33F-8A53E12B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33B-BF97-4DE3-9BB7-0DC28B43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F6B-0A58-4ED0-8B3D-A82F220B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67D-2BCA-4576-8233-EC1E9CB6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F23B-DB0E-4CB9-A4C9-9116056C64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B7C0-D0B1-4CEE-B81B-DCC2FB51A16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ing 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rade 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914400" y="68580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Searche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828800" y="2590920"/>
            <a:ext cx="63244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Directory Search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Keyword Search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ory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143000" y="228600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rectory search is like looking through a table of contents to find information about a subject. This type of search is best when you are not exactly sure what you are looking for, but just have a topic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219320" y="4724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ctivity – Find information about cats on Kids Clic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533520" y="2057400"/>
            <a:ext cx="83055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2. Effective searching depends 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eyword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(choosing them thoughtfully produces the best result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bject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are better th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ction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(who, what, where, when and why are better than how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per Noun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mbers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are the most powerful Keyword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Word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04920" y="274320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first thing you find is probabl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the information you need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Information at the top of the list is not always the best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information you find may not be accurat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2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You may find inappropriate information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gs to Know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57200" y="1828800"/>
            <a:ext cx="826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You enter the words you think will be in th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documents you seek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The search engine finds the webpages in its index tha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exactly match your word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You review the search results to see if your words found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information you hoped for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* If your search words didn't match, you revise your word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and try again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733920" y="4495680"/>
            <a:ext cx="5257800" cy="1516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524960" y="60199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Times New Roman"/>
              </a:rPr>
              <a:t>The words in bold are called keyword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914400" y="6094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ch Game - Step by Step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04920" y="182880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Where is the liberty bell located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03840" y="3124080"/>
            <a:ext cx="192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Keywords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44440" y="4267080"/>
            <a:ext cx="80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What is the name of Minnesota’s football team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80160" y="5410080"/>
            <a:ext cx="19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Keywords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219320" y="5335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word Activity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e scavenger hunt activity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447920" y="762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ine Activitie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7:20:18Z</dcterms:created>
  <dc:creator>user</dc:creator>
  <dc:description/>
  <dc:language>en-US</dc:language>
  <cp:lastModifiedBy>Kris Sheehan</cp:lastModifiedBy>
  <dcterms:modified xsi:type="dcterms:W3CDTF">2010-02-03T00:22:07Z</dcterms:modified>
  <cp:revision>19</cp:revision>
  <dc:subject/>
  <dc:title>Searching Introduction</dc:title>
</cp:coreProperties>
</file>