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AD6-82C6-4CCE-A2B6-F741D666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E222-22A9-4408-9990-AB5A93C3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055-5DF8-411A-9AD5-A7768858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67C6-B39C-47EC-B16B-D62BA490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EC74-6A2B-407F-941E-EE601A45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3FDC-F022-44F4-A607-A75D004C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E848-53AE-41A4-8DC5-9964F70E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C60F-6C3F-4717-BFF8-4D6967B7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8AE8-2A2A-4F9F-9B5C-D0018573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0B53-4ACF-4D5E-BDBC-DB6650F2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3006-0149-4E2E-B846-6EAFD7A6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A688-4BF7-4F7E-A39C-B95DC0B6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A2DD-A71F-48F1-8E95-D063EEC2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3EFC-4911-4691-B5D8-7F2240A4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F108-251E-420B-93D3-7CE3C83E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0B70-F02D-4DEE-B5F8-62969D0B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359C-3D62-4AA6-AF3F-4FF7F1F0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6B2F-94B3-4F57-BDA7-FBAFD0D9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2CD-C51F-4FCF-B157-C7FA5055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B4B-2AE2-4B88-8DF2-6FFA8EA9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C56F-D4F2-4911-8D31-54C9930B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20D3-8465-4B5C-AAA7-39E58DC6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42B7-2DB0-4205-9060-933DAB3C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F880-549D-4188-9B94-6E381276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8B65-EF0A-47EF-911F-969B68FA37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4EDA-97BC-44A9-8F71-F4D2190FCC8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ing 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rade 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914400" y="68580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Searche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828800" y="2590920"/>
            <a:ext cx="63244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Directory Search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Keyword Search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ory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143000" y="228600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rectory search is like looking through a table of contents to find information about a subject. This type of search is best when you are not exactly sure what you are looking for, but just have a topic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219320" y="4724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ctivity – Find information about cats on Kids Clic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533520" y="2057400"/>
            <a:ext cx="83055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2. Effective searching depends 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eyword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(choosing them thoughtfully produces the best result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bject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are better th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ction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(who, what, where, when and why are better than how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per Noun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mber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are the most powerful Keyword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Word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04920" y="274320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first thing you find is probabl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the information you need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Information at the top of the list is not always the best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information you find may not be accurat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You may find inappropriate information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gs to Know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57200" y="1828800"/>
            <a:ext cx="826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You enter the words you think will be in th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documents you seek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The search engine finds the webpages in its index tha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exactly match your word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You review the search results to see if your words found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information you hoped for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If your search words didn't match, you revise your word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and try again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733920" y="4495680"/>
            <a:ext cx="5257800" cy="1516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524960" y="60199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words in bold are called keyword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914400" y="6094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ch Game - Step by Step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04920" y="182880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Where is the liberty bell located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03840" y="3124080"/>
            <a:ext cx="192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Keywords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44440" y="4267080"/>
            <a:ext cx="80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What is the name of Minnesota’s football team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80160" y="5410080"/>
            <a:ext cx="19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Keywords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219320" y="5335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word Activity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e scavenger hunt activity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ine Activitie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7:20:18Z</dcterms:created>
  <dc:creator>user</dc:creator>
  <dc:description/>
  <dc:language>en-US</dc:language>
  <cp:lastModifiedBy>Kris Sheehan</cp:lastModifiedBy>
  <dcterms:modified xsi:type="dcterms:W3CDTF">2010-02-03T00:22:07Z</dcterms:modified>
  <cp:revision>19</cp:revision>
  <dc:subject/>
  <dc:title>Searching Introduction</dc:title>
</cp:coreProperties>
</file>